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14C8-B195-4A99-AA28-16498C6F5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58F-63A6-4856-9083-06A78CA2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A73-EDA5-4340-B2A9-F5B156D2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A10-E70A-45A2-AE21-3454ADDF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455-564E-4F53-A3D7-9940D087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C4E1-FAAE-4788-9F67-7F64784E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EE04-5F7E-4FE3-A1CE-DF0842C0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0952-20C6-4941-A080-33AAC8E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3814-1E3C-42B7-A0E4-105F684C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B7D-D74C-498F-86DF-F0B7890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C24C-5067-4EAC-9FC7-1D987500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A14A-4517-4FC6-AE84-84EAEAD6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E4F-630A-47BE-9668-8166255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CA6A-4F14-46C9-9774-543BDD28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EBE7-E461-47A5-835A-0877D9D3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11D1-D066-4695-9534-1756DF85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56A2-FEEF-47D6-AA28-726FBCFA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D4EE-8905-4221-936F-50CF8345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039B-9A57-4615-8400-04F557A3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67405-AE91-455C-AF6E-CBBEA559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DDA8-0E81-4365-9B37-B6413388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F123-C1D1-4E8A-9B9B-F3F3DBD2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97BC-4925-4321-ABF0-2E4F7116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66D-88E6-4AE7-A49D-A5F8143B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66BA-E937-44CF-9F7D-9AE5F268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194F-19C6-4442-AC27-4F6B8DC4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FB3C-6CD8-4D62-85AA-8BB48384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AFE3-80B3-4B9C-A4DF-C7356CA7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20AA-C02E-45C0-A5B4-62658DAA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1340-68E4-4054-9CDD-AE9857E8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A4B3-43D3-48BC-8E12-A12E40C1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FEC-D736-4268-BE3B-54D87EDC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26FD7-4B01-40C9-A40A-BCD92ECD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269-5C7A-4C0F-98C1-DBC4DFDC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C96F9-51A7-47D0-B640-519F9E10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B7F2C-FC53-4B94-8682-603E189C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78018-31B5-43AE-B8BD-F918AB14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D6CAB-2AB8-40C7-B14B-39C3CD4A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4C816-77C8-4394-B9B5-084B42E6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FD45E-4F77-4D67-B1A3-3DD2FA2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6B3907-B020-4232-87AC-AA9213E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8F632-A09E-403A-93EB-910A46C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42398-44FC-45B8-AE32-15439DA4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2F31E-A288-48A5-86FF-CA2487EE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009-4063-41D8-A192-819C311B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7F724-5C2F-4A72-99F4-FFF017E4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6EFB8-E6B9-477B-BF6A-2B584544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9D3A2-F849-4572-8F92-884ABADA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89FD9-7CC9-4273-B7B3-C48EF053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34733-390E-4CBF-8067-C639A3C3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8309A-D3BF-43C9-8B36-F64F5463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E4BC1-FEDD-4097-9457-C09DDE89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326D7-92B1-464C-A665-AAA73DBF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FBA93-D8C9-440A-BBE7-62559CE1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8326B-B6D9-492C-B9DD-F6A89600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D63-3FDE-4661-B6B0-A4D0387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10F8F-BDB3-422E-85ED-8D0AC313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1E723E-2476-43D0-946C-29A7B252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FA848-5E4E-4309-A2BF-7DDA2526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DC7-9B17-4531-9550-8A90905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7D5-4DE4-4DA6-BEAA-C4BAFF3E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27B1-B0D1-4207-8DB7-8AB0FDF32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7AF-D28A-4E48-8EA2-ACFEC4327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0FF4-3B21-41AE-964C-FACD8406C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rédito y U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FFDB-2127-445B-88AA-F54AF3ADF1B8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23C2-13A8-4CE3-9BA6-E57FD690B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Su Crédito y 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A1AE-3770-4F48-9971-1C2CCA921DFD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2D5A-D9AB-42EB-B7AA-3549BED86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76320" y="838080"/>
            <a:ext cx="4647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Su Cr</a:t>
            </a:r>
            <a:r>
              <a:rPr b="1" lang="es-ES" sz="7600" spc="-1" strike="noStrike">
                <a:solidFill>
                  <a:srgbClr val="c1961c"/>
                </a:solidFill>
                <a:latin typeface="Helvetica Neue"/>
              </a:rPr>
              <a:t>édi</a:t>
            </a: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to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57200" y="31240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32f5a"/>
                </a:solidFill>
                <a:latin typeface="Helvetica Neue"/>
              </a:rPr>
              <a:t>y Usted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1961c"/>
                </a:solidFill>
                <a:latin typeface="Helvetica Neue"/>
              </a:rPr>
              <a:t>¿Qué es un informe creditic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informa a los prestamistas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Quién es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ántas deudas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y información negativa sobre usted en los registr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gencias de informes creditici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2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person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del registro públ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1676520"/>
            <a:ext cx="2019240" cy="172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registro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información podría incluir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n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tenciones fiscales no pa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a cob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car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6472080" y="15238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ancarrota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?lo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retiene todos sus bienes y propiedad y paga a plazos sus deu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lo 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debe ceder cierta propiedad al acr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impacto de la bancarro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¡Debería usarlo como último recurs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bancarrot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ermanece en su informe crediticio entre 7 y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ce más difícil obtener un crédito en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29264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información no aparece en los informes creditici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aldos de cuentas corrientes o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ompras realizadas con dinero o un che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formación sobre cuentas empresari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aza, sexo, religión o país ?de ori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de conduc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os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informes crediticios se utiliza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obtener préstamos u otros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conseguir ciertos tipo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una vivienda (solicitudes para un alquiler o una hipot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conseguir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otivos por los cuales se puede denegar una solicitud de présta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tiene 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ene problemas crediticios o un historial crediticio nega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s tip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untaje FICO (Fair Isaac Corporation 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F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método principal que se utiliza para establecer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Puntaje de 300 a 8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puntaje está basado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Historial de pagos del pasado: 3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Deudas pendientes: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Cuánto tiempo ha tenido crédito: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Nuevas solicitude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Tipo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8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stema de puntaje crediticio más nue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untaje de 501 a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mbién agrupa puntajes por categorías de letr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untaje crediticio bueno y m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to más alto sea su puntaje crediticio, más probable será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iba una tasa de interés mej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gue menos por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se su informe crediticio regularmente para garantizar que su información es correc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203960" y="1905120"/>
            <a:ext cx="1787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l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in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excesiv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cuando está comparando tas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tros factores que influencian a los prestamis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987480"/>
            <a:ext cx="83059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otros factores podrían influenciar la decisión de un prestamista para otorgar un préstamo además de su informe y su puntaje creditici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mpo que ha estado en su res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Empl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687840"/>
            <a:ext cx="2246040" cy="149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1: ¿Quién representa el riesgo crediticio más alt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si cada persona es un riesgo crediticio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33160" y="156996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derech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 los números que puede encontrar en los avisos de privacidad de su tarjeta de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086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Man talking on cell phone and looking down at a piece of paper in his hands"/>
          <p:cNvPicPr/>
          <p:nvPr/>
        </p:nvPicPr>
        <p:blipFill>
          <a:blip r:embed="rId1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edir su 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063800"/>
            <a:ext cx="8763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recibir una copia de su puntaje 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gencias de informes credit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mpañías que quieran venderle su puntaje crediticio como parte de un paquete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32f5a"/>
                </a:solidFill>
                <a:latin typeface="Helvetica Neue"/>
              </a:rPr>
              <a:t>Reciba un informe crediticio gratui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a vez cada 12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ando solicita un préstamo de consumidor garantizado por su viviend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lame al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e Crediticio Anual Gratu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2: Informe crediticio de Marí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sponda a las preguntas plantead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65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ir e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icar por qué el crédito es importan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el propósito de un informe crediticio y cómo se utiliz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ar una copia de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er y analizar su informe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erenciar entre el buen crédito y el ma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jemplo de un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personal/del consumid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Declaración personal/del consumido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Resumen de la cuent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Consult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del registro públ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John Q. Consumi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tilice el ejemplo del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 plant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car err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responsabilida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onerse en contacto con la agencia de informes credit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cribir una carta para disputar e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agencias de informes crediticios deben realizar una investigación en el plazo de 30 días después de recibir su car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10666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ja su información personal (SSN, número PIN, contraseña, tarjetas de crédito/débit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ja la correspondencia que recibe y enví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nscríbase al depósito direc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Mantenga su basura financiera "limpia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sté atento a sus resúmenes bancarios y a las facturas de sus tarjetas de crédi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mpida el robo de identidad en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vise su informe crediticio todos los años y denuncie cualquier actividad fraudul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ursos de la Comisión Federal de Comercio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ment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F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Police badge and ID"/>
          <p:cNvPicPr/>
          <p:nvPr/>
        </p:nvPicPr>
        <p:blipFill>
          <a:blip r:embed="rId2"/>
          <a:stretch/>
        </p:blipFill>
        <p:spPr>
          <a:xfrm>
            <a:off x="763596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ga una alerta contra fraudes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inicial - 90 dí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extendida - 7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onga un bloqueo de seguridad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imita el acceso a su informe credit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Puede retrasar, interferir con, o prohibir la aprobación a tiempo de cualquier solicitud o petición para un créd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préstamo bancario peque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crédito en un establecimiento loc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e algo a plazos y pague una gran cantidad de entrada, y negocie los pagos a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un amigo o familiar que sea su aval para un présta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ague sus facturas a tiemp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los prestamistas que revisen sus facturas de servicios públicos y otras para otorgarle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antenga sus niveles de deuda baj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posite dinero regularmente en una cuenta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reparar su propio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9144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Obtenga una copia de su informe crediti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óngase en contacto con la agencia de informes crediticios y los acreedores para documentar cualquier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e optar por no recibir ofertas no solicitadas de crédito para evitar contraer más deu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0" descr="Man using a laptop"/>
          <p:cNvPicPr/>
          <p:nvPr/>
        </p:nvPicPr>
        <p:blipFill>
          <a:blip r:embed="rId1"/>
          <a:stretch/>
        </p:blipFill>
        <p:spPr>
          <a:xfrm>
            <a:off x="685800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las implicaciones de tener un buen o un mal puntaj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dentificar maneras de crear y reparar su historial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corregir errores en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gencias de asesoría creditic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ble con varias compañías antes de firmar un contra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Asegúrese de que son compañías reconocid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ga preguntas sobre servicios, costos y un plan de amortiz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565520"/>
            <a:ext cx="2676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mos en la reparación de crédi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240" y="1063800"/>
            <a:ext cx="8915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eliminar información correcta de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 llevar años reparar un mal crédi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crearle una identidad nuev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as compañías legítimas proporcionan un servicio antes de pedirle que pagu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pedir usted mismo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lee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solicita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nstruir y reparar su crédi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otegerse del robo de identidad y de timos en la reparación de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informes crediticio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es el crédit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respuesta le daría un profesional financiero para definir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finir 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El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habilidad d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veces se llama prést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mesa que hace de devolver el dinero que toma prestado más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a importancia d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Por qué creen que es importante el crédit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 útil en situaciones de emer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 conveniente cuando no tiene dinero en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ermite pagar compras grandes a lo largo de un periodo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uede ayudar a encontrar un trabajo, una casa o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Caso crediticio: los escritorios de Marvi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construye y vende mesas de escritorio. Quiere tomar $1,000 prestados para una sierra de banda nueva y una lijadora el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éct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ca. Ha pedido un préstamo al banco y ofrece en garantía sus nuevas herramienta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Marvin no devuelve o no puede devolver el préstamo, ¿qué hará el prestamista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</cp:lastModifiedBy>
  <dcterms:modified xsi:type="dcterms:W3CDTF">2011-02-11T21:59:53Z</dcterms:modified>
  <cp:revision>519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